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DE904-7F0D-48B5-A69E-240816BC8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262EC-2CB3-4984-AD53-0B7253A0A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94CCA-0926-476E-8594-E84006E79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ED32B-64D6-4D66-B988-BE27218C4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53A44-C244-45FE-B112-41B6DA4AF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D744C-CB51-4D03-9607-CB47CC8B1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A8554-CF73-4944-8691-FFC3CDB41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0668F-A701-4B95-BDEE-270576F75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03A55-685B-4F21-8F4B-D84744C58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8538A-75E3-4752-A9BD-1003AB4E9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AEF48-16CF-4F23-A2A6-88CB3779B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500B9-4120-4DDC-A653-AE59FE649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19ACB-41F1-4382-9E4C-5C6C3244F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796D0-E322-41FE-8A97-35E36784F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3903F-0E86-44D3-AB31-4BAB620BE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7045F-F82C-433B-B5BB-AF2065B0E4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D657B-63A8-4A34-B682-76843D2FF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13101-421D-42DA-AAB0-A996BF37C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70D3E-5117-42EF-8136-77C05141C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38E1F-19AB-4FB2-A69E-12409C4C2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58F75-CBD3-4BA9-B9E6-C0E56CFC7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07BBF-E0FA-43C1-8853-FEA1345EF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961E1-8C4F-47B2-8488-6A694E71F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0BDDB-992B-49C4-B962-79FA1424D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16923-E74D-41C5-A1B3-B7CE0EA4DC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AF42B-9840-4764-A133-1256809EAFD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6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장 정서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-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행동장애아 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1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정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진흥법 시행령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17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서장애에 자폐를 포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DEA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체 정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장애 아동협회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자폐시민협회의 자폐증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폐증과 자폐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인 등에 대한 특수교육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폐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원인 및 출현율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서와 행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각각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0.55%, 0.15%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원인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생물학적 요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손상과 뇌기능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경적 요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가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3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분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교육적 분류체제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분열적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사회적으로 부적절하거나 미숙한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사회적 위축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상동적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공격적인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미국 정신의학회의 정신장애진단 및 통계편람</a:t>
            </a: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(DSM-IV)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전반적 발달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주의력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결핍 및 파괴적 행동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유아기 또는 초기 아동기 급식 및 섭식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틱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배설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분리불안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선택적 함묵증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애착장애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상동적 운동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통계적 분류체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외부지향성 및 내부지향성 행동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4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반적 정서행동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적응행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업성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폐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극 과잉선택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낮은 동기유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기자극 반응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강화와 결과에 대한 독특한 반응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5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진단평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선별검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검목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checklist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투사검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접 관찰과 행동 측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02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6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 및 중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0074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관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계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급 행동관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물 치료와 교육의 병행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 하세요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!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13" name="Picture 4" descr="MCj04042630000[1]"/>
          <p:cNvPicPr/>
          <p:nvPr/>
        </p:nvPicPr>
        <p:blipFill>
          <a:blip r:embed="rId1"/>
          <a:stretch/>
        </p:blipFill>
        <p:spPr>
          <a:xfrm>
            <a:off x="2627280" y="1844640"/>
            <a:ext cx="439272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9T15:10:29Z</dcterms:created>
  <dc:creator>.</dc:creator>
  <dc:description/>
  <dc:language>en-US</dc:language>
  <cp:lastModifiedBy>sec</cp:lastModifiedBy>
  <dcterms:modified xsi:type="dcterms:W3CDTF">2010-01-11T00:15:28Z</dcterms:modified>
  <cp:revision>8</cp:revision>
  <dc:subject/>
  <dc:title>제 6장 사회교과교육</dc:title>
</cp:coreProperties>
</file>